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0A8-3682-4FB7-A956-79607056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B65-5FB9-42E2-BD41-6E2DB6CB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EC8-55A6-45C5-8CA2-8DFD21E7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3ED-5959-40F8-AA75-C100FF13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6106-D681-4678-AE5E-29FA50CA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BBC7-B2A0-4D67-A1F0-5AD20FE2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0AC4-4199-4376-9C84-285A0220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6272-5FCE-44A4-BCAC-FB0D3D81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9EC2-522C-453B-871A-B7893FB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03F0-F3AF-4769-A37D-EAC3925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E835-9451-4863-8718-873CB16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1CB-65B5-4C72-9C7E-C9196B6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1DF-FDE8-4E06-8B77-A9B6E98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93DB-5574-421D-B70A-77E76AF7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0A9B-20B9-4002-B4D2-1F11E7A3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CF90-C7E1-4094-A51D-523A762A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250-3AA4-4166-B78D-3A9BC0F4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EA5-6EA5-4EED-8F7C-544D89E8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2EC-472E-4259-9F3D-40C6986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EF3-966E-4188-8A23-66C8494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332-8F71-4496-8ACE-186B9B6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6F9-3447-416B-ADCA-B19E789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AA1-A5AF-4636-ACD0-3B9FD37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3F6-6174-44B3-9315-676609BE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0471-ADFC-42B6-B65F-F1715CA64E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AA4-905B-4E74-A323-3034F4ACD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ill There Was No Remedy</a:t>
            </a:r>
            <a:br>
              <a:rPr sz="48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 Divided Kingdom –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rter 7, Lesson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aiah – Par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ges 109-1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utline of Chapters 58-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ish worship will have to go – 5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still available – 59: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stice will have to go – 59: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deemer will come to Zion – 59:19-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orified Zion (His people’s hearts) in the midst of the nations that oppose he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-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is involves a “remnant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rses Relating To Israel and Judah, and the Nations (Chapters 1-3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to Israel and Judah – ch. 1-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for the Nations – ch. 13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sts Between God’s People and the Nations – ch. 24-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ukes &amp; Promises Regarding Israel’s Future – ch. 28-3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rses Relating To Israel and Judah, and the Nations (Chapters 1-3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zekiah and Judah Face Assyria – ch. 36-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deliv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zekiah’s s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ors from 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eries of Vi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s That Set Forth The Servants God Will Us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 Z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mplish His Will Among the Nations – ch. 40-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hovah Will Deliver Isra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0-4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ncomparable Grea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omforts like Him? -  40:10-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trengthens like Him? –  40:29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know the future and tell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the True and LIV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Will Serve God’s Pl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d Before Even Born – Only God could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rus was the first king of Medo-Per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ill let God’s people go home from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servant to bring God’s judgment upon Baby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’s Suffering Serv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9-5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ake Sin Upon Him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atisfy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Provide Sacrifice Through Which to Save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Messianic Serv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astonish the nations – 52:13-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different than usual expectations -53: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wounded for our transgressions – 53:4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be oppressed though he had done no wrong – 53:7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His death the will of God would accomplished – 53:10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orified Zion In A New Dispen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58-6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new age we will se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Red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itual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ed of David, the Ch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23:38:57Z</dcterms:created>
  <dc:creator>Terry W. Benton</dc:creator>
  <dc:description/>
  <dc:language>en-US</dc:language>
  <cp:lastModifiedBy>Frank D Vines</cp:lastModifiedBy>
  <dcterms:modified xsi:type="dcterms:W3CDTF">2006-01-30T18:23:45Z</dcterms:modified>
  <cp:revision>6</cp:revision>
  <dc:subject/>
  <dc:title>Till There Was No Remedy The Divided Kingdom –Part 2</dc:title>
</cp:coreProperties>
</file>